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6A3-8A2C-4D32-89AD-9A15270C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D7D-749E-4B5A-A293-F7528654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912-AE5C-4DB1-836F-1A959874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452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220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452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1220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7D1-069A-49A6-B187-95352EF5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ADA-B345-4B4F-BD9C-B4BC703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60C-0648-4F06-8455-58A09CF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D5B-51B0-4655-B5E7-BFEB059A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B14-B327-4934-9895-B53A255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558-49E8-4156-8186-FA7B4F4C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1DE-59E5-41CE-8362-8449976A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55F-EBE0-480A-B91D-E57D536D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149-7479-4D5C-A170-0E0F8FA7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1FCF8-67CA-4F66-9699-3DF27CC09A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F8067-E126-4276-8C44-55D8CA965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cohut_gert-eussen-1.jpg"/>
          <p:cNvPicPr/>
          <p:nvPr/>
        </p:nvPicPr>
        <p:blipFill>
          <a:blip r:embed="rId2"/>
          <a:stretch/>
        </p:blipFill>
        <p:spPr>
          <a:xfrm>
            <a:off x="1133640" y="1657440"/>
            <a:ext cx="6833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0040" y="5791320"/>
            <a:ext cx="57690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sentation 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urdes Per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3041640" y="712800"/>
            <a:ext cx="28526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57200" y="141768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ngineered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man-made material that uses different kinds of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s and chemic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duce a homogeneous, cheaper and more resistant material, is used when large portions of continuous wood are needed, or when someone requires wood tha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doesn’t deteriorate in certain circumsta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still requires natural wood as a base material and it’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ot as versatile and aesthetic as natural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odern construction wood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plywood, products such as glued laminated timber (glulam), laminated veneer lumber, parallam and I-jois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These are all light and resist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-made woods, but they still fail to replace traditional building wood complete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portions that ar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nfit for constru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c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other useful materials such as chipboard, engineered wood, hardboard, medium-density fiberboard, oriented strand board. Suc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 deriva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idely used: wood fibers are an important component of mos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cellulose is used as a component of som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tic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derivatives can also be used for all kinds of flooring, for exampl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minate flo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laminate_flooring.jpg"/>
          <p:cNvPicPr/>
          <p:nvPr/>
        </p:nvPicPr>
        <p:blipFill>
          <a:blip r:embed="rId3"/>
          <a:srcRect l="0" t="29584" r="0" b="0"/>
          <a:stretch/>
        </p:blipFill>
        <p:spPr>
          <a:xfrm>
            <a:off x="2654280" y="3586320"/>
            <a:ext cx="60325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a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nstruction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 very long history. It is very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to work wi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n compared to stone, brick and metal. It offer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 and strengt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oo much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its one of the mo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asic structural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can b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14044_99_1.jpg"/>
          <p:cNvPicPr/>
          <p:nvPr/>
        </p:nvPicPr>
        <p:blipFill>
          <a:blip r:embed="rId3"/>
          <a:stretch/>
        </p:blipFill>
        <p:spPr>
          <a:xfrm>
            <a:off x="3200400" y="36576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arly uses of wood in construction were that of providing 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re structu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building. Even in early stone houses and other buildings made entirely of non organic materials, a wooden frame would b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hold the structure together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upport its weigh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it could be finish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use wood i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ap and versati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t has been used for regular house building for a very long time. After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with modern materials available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 still need w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construction process and also as part of the structure of some hou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lustracni-obrazek.jpg"/>
          <p:cNvPicPr/>
          <p:nvPr/>
        </p:nvPicPr>
        <p:blipFill>
          <a:blip r:embed="rId3"/>
          <a:stretch/>
        </p:blipFill>
        <p:spPr>
          <a:xfrm>
            <a:off x="990720" y="4089240"/>
            <a:ext cx="6350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781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ormal_Bow_by_DarccWrath.jpg"/>
          <p:cNvPicPr/>
          <p:nvPr/>
        </p:nvPicPr>
        <p:blipFill>
          <a:blip r:embed="rId2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4320" y="21337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2"/>
          <a:stretch/>
        </p:blipFill>
        <p:spPr>
          <a:xfrm>
            <a:off x="3041640" y="291960"/>
            <a:ext cx="2852640" cy="13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d2047101.jpg"/>
          <p:cNvPicPr/>
          <p:nvPr/>
        </p:nvPicPr>
        <p:blipFill>
          <a:blip r:embed="rId3"/>
          <a:stretch/>
        </p:blipFill>
        <p:spPr>
          <a:xfrm>
            <a:off x="225360" y="1773360"/>
            <a:ext cx="3359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93227876_9c50524342_o.jpg"/>
          <p:cNvPicPr/>
          <p:nvPr/>
        </p:nvPicPr>
        <p:blipFill>
          <a:blip r:embed="rId2"/>
          <a:srcRect l="51401" t="0" r="0" b="0"/>
          <a:stretch/>
        </p:blipFill>
        <p:spPr>
          <a:xfrm flipH="1">
            <a:off x="5943240" y="1752480"/>
            <a:ext cx="2971800" cy="386100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s been with man since we learned to use tools for our advant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ed build the first shelters and has been with us for construction and furniture ever si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n important material and it has universal us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wood 2.mp3" descr=""/>
          <p:cNvPicPr/>
          <p:nvPr/>
        </p:nvPicPr>
        <p:blipFill>
          <a:blip r:embed="rId4"/>
          <a:stretch/>
        </p:blipFill>
        <p:spPr>
          <a:xfrm>
            <a:off x="208080" y="6126120"/>
            <a:ext cx="498240" cy="498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62120" y="6167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3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3225365_31e24d0c6c_o.jpg"/>
          <p:cNvPicPr/>
          <p:nvPr/>
        </p:nvPicPr>
        <p:blipFill>
          <a:blip r:embed="rId2"/>
          <a:srcRect l="18440" t="0" r="4469" b="0"/>
          <a:stretch/>
        </p:blipFill>
        <p:spPr>
          <a:xfrm>
            <a:off x="4983120" y="1905120"/>
            <a:ext cx="4160880" cy="3868560"/>
          </a:xfrm>
          <a:prstGeom prst="rect">
            <a:avLst/>
          </a:prstGeom>
          <a:ln w="0">
            <a:noFill/>
          </a:ln>
        </p:spPr>
      </p:pic>
      <p:pic>
        <p:nvPicPr>
          <p:cNvPr id="5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is a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rganic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typically generates in trees as a result of the tree’s grow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37ff15"/>
                </a:solidFill>
                <a:latin typeface="Calibri"/>
              </a:rPr>
              <a:t>Biolog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ood i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ellulose composi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helps the distribution of water and nutrients, as well as provide structural support for the pl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pen_blank_pg_40b_lg.jpg"/>
          <p:cNvPicPr/>
          <p:nvPr/>
        </p:nvPicPr>
        <p:blipFill>
          <a:blip r:embed="rId2"/>
          <a:stretch/>
        </p:blipFill>
        <p:spPr>
          <a:xfrm>
            <a:off x="1371600" y="3352680"/>
            <a:ext cx="604512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it is of organic origin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’s characteristics v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ing on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nd of t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aken from, and also it’s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uses given to wood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n’t even involve processing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it was used as it was found, either as a weapon or as fuel for a fire. Later on, man learned to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ve shap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ood and made it useful to use with tools, and eventual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 buildings and furni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s we discovered more about its characteristics, we began using wood in everything we nee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’s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float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elped create the fir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oa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until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ships still used wood in their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wood helped creat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protected shelter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rly man, and it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heat iso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helped them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main war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harsh wea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anlon Ron plate bowl chopsticks.JPG"/>
          <p:cNvPicPr/>
          <p:nvPr/>
        </p:nvPicPr>
        <p:blipFill>
          <a:blip r:embed="rId2"/>
          <a:srcRect l="0" t="22285" r="8001" b="0"/>
          <a:stretch/>
        </p:blipFill>
        <p:spPr>
          <a:xfrm>
            <a:off x="4546440" y="3225960"/>
            <a:ext cx="4673880" cy="3632040"/>
          </a:xfrm>
          <a:prstGeom prst="rect">
            <a:avLst/>
          </a:prstGeom>
          <a:ln w="0">
            <a:noFill/>
          </a:ln>
        </p:spPr>
      </p:pic>
      <p:pic>
        <p:nvPicPr>
          <p:cNvPr id="6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188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ight 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oo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manipu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de it a perfect material to develop mor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advance too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like handles and cutlery, such as chopsticks, toothpicks, and other utensils, like the wooden spo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good for furniture and decoration, a fact that stays true even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machines made before the invention of plastics had wood in them. The on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ffective replace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wood in modern time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s actually still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aimler car-22.jpg"/>
          <p:cNvPicPr/>
          <p:nvPr/>
        </p:nvPicPr>
        <p:blipFill>
          <a:blip r:embed="rId3"/>
          <a:stretch/>
        </p:blipFill>
        <p:spPr>
          <a:xfrm>
            <a:off x="2054160" y="3565440"/>
            <a:ext cx="45957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3:32:01Z</dcterms:created>
  <dc:creator>D R</dc:creator>
  <dc:description/>
  <dc:language>en-US</dc:language>
  <cp:lastModifiedBy>D R</cp:lastModifiedBy>
  <dcterms:modified xsi:type="dcterms:W3CDTF">2010-03-02T13:51:19Z</dcterms:modified>
  <cp:revision>17</cp:revision>
  <dc:subject/>
  <dc:title>WOOD</dc:title>
</cp:coreProperties>
</file>