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9.jpeg" ContentType="image/jpeg"/>
  <Override PartName="/ppt/media/image5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5CCC0-3465-415E-A896-04F4766EC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696C-1524-4380-8FCE-76FBC5214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F16C-E971-4E9A-A7AA-182B2925E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23452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012200" y="160020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23452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012200" y="3964320"/>
            <a:ext cx="169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60FA-7B3B-4ED9-8C30-5C4ED1E61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81D3-0F8C-4117-94F8-8A231A371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450E-EFC4-4E4A-8DEF-737DF05B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2C68-2EB7-4BAB-92CF-19628159B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81C2E-5067-4990-BE72-72C42F9D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1D82-EBF6-4CC2-B5EE-12BC899D3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2490-BE2E-4F88-8BC2-BAA3DDD1E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151080" y="396432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17E3-3D59-4820-AA70-636CF9C23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151080" y="1600200"/>
            <a:ext cx="2565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5257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ECA3-D837-46DB-9AB9-AA6F8726C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1CF779-28AE-4ED0-9CB9-ED574909982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19E2041-E52B-4035-A04C-CF4B6FB61E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cocohut_gert-eussen-1.jpg"/>
          <p:cNvPicPr/>
          <p:nvPr/>
        </p:nvPicPr>
        <p:blipFill>
          <a:blip r:embed="rId2"/>
          <a:stretch/>
        </p:blipFill>
        <p:spPr>
          <a:xfrm>
            <a:off x="1133640" y="1657440"/>
            <a:ext cx="6833880" cy="52070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3200040" y="5791320"/>
            <a:ext cx="5769000" cy="79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resentation by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Lourdes Pern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Rectangle 3" descr=""/>
          <p:cNvPicPr/>
          <p:nvPr/>
        </p:nvPicPr>
        <p:blipFill>
          <a:blip r:embed="rId3"/>
          <a:stretch/>
        </p:blipFill>
        <p:spPr>
          <a:xfrm>
            <a:off x="3041640" y="712800"/>
            <a:ext cx="2852640" cy="133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0" name="TextBox 4"/>
          <p:cNvSpPr/>
          <p:nvPr/>
        </p:nvSpPr>
        <p:spPr>
          <a:xfrm>
            <a:off x="457200" y="1417680"/>
            <a:ext cx="8229600" cy="42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ngineered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 man-made material that uses different kinds of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s and chemic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o produce a homogeneous, cheaper and more resistant material, is used when large portions of continuous wood are needed, or when someone requires wood tha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doesn’t deteriorate in certain circumstance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 It still requires natural wood as a base material and it’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ot as versatile and aesthetic as natural 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Modern construction wood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clude plywood, products such as glued laminated timber (glulam), laminated veneer lumber, parallam and I-joist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These are all light and resistan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an-made woods, but they still fail to replace traditional building wood completel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portions that ar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unfit for constru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b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rocesse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nto other useful materials such as chipboard, engineered wood, hardboard, medium-density fiberboard, oriented strand board. Such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 derivative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e widely used: wood fibers are an important component of most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paper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cellulose is used as a component of som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synthetic material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ood derivatives can also be used for all kinds of flooring, for exampl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laminate floor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3" descr="laminate_flooring.jpg"/>
          <p:cNvPicPr/>
          <p:nvPr/>
        </p:nvPicPr>
        <p:blipFill>
          <a:blip r:embed="rId3"/>
          <a:srcRect l="0" t="29584" r="0" b="0"/>
          <a:stretch/>
        </p:blipFill>
        <p:spPr>
          <a:xfrm>
            <a:off x="2654280" y="3586320"/>
            <a:ext cx="6032520" cy="25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457200" y="15998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a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nstruction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a very long history. It is very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to work wi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hen compared to stone, brick and metal. It offer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 and strength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ithout too much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its one of the mo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asic structural material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re can b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14044_99_1.jpg"/>
          <p:cNvPicPr/>
          <p:nvPr/>
        </p:nvPicPr>
        <p:blipFill>
          <a:blip r:embed="rId3"/>
          <a:stretch/>
        </p:blipFill>
        <p:spPr>
          <a:xfrm>
            <a:off x="3200400" y="3657600"/>
            <a:ext cx="32767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457200" y="1599840"/>
            <a:ext cx="82296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early uses of wood in construction were that of providing 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ore structure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of the building. Even in early stone houses and other buildings made entirely of non organic materials, a wooden frame would b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necessar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o hold the structure together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support its weight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until it could be finish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57200" y="160020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Because wood i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heap and versatil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it has been used for regular house building for a very long time. After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with modern materials available,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e still need wood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 the construction process and also as part of the structure of some hous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ilustracni-obrazek.jpg"/>
          <p:cNvPicPr/>
          <p:nvPr/>
        </p:nvPicPr>
        <p:blipFill>
          <a:blip r:embed="rId3"/>
          <a:stretch/>
        </p:blipFill>
        <p:spPr>
          <a:xfrm>
            <a:off x="990720" y="4089240"/>
            <a:ext cx="63500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6781680" y="586728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6" descr="Formal_Bow_by_DarccWrath.jpg"/>
          <p:cNvPicPr/>
          <p:nvPr/>
        </p:nvPicPr>
        <p:blipFill>
          <a:blip r:embed="rId2"/>
          <a:stretch/>
        </p:blipFill>
        <p:spPr>
          <a:xfrm>
            <a:off x="2282760" y="0"/>
            <a:ext cx="45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784320" y="2133720"/>
            <a:ext cx="510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woo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use of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ern wo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s a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Rectangle 4" descr=""/>
          <p:cNvPicPr/>
          <p:nvPr/>
        </p:nvPicPr>
        <p:blipFill>
          <a:blip r:embed="rId2"/>
          <a:stretch/>
        </p:blipFill>
        <p:spPr>
          <a:xfrm>
            <a:off x="3041640" y="291960"/>
            <a:ext cx="2852640" cy="1341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7" descr="pd2047101.jpg"/>
          <p:cNvPicPr/>
          <p:nvPr/>
        </p:nvPicPr>
        <p:blipFill>
          <a:blip r:embed="rId3"/>
          <a:stretch/>
        </p:blipFill>
        <p:spPr>
          <a:xfrm>
            <a:off x="225360" y="1773360"/>
            <a:ext cx="3359160" cy="49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193227876_9c50524342_o.jpg"/>
          <p:cNvPicPr/>
          <p:nvPr/>
        </p:nvPicPr>
        <p:blipFill>
          <a:blip r:embed="rId2"/>
          <a:srcRect l="51401" t="0" r="0" b="0"/>
          <a:stretch/>
        </p:blipFill>
        <p:spPr>
          <a:xfrm flipH="1">
            <a:off x="5943240" y="1752480"/>
            <a:ext cx="2971800" cy="3861000"/>
          </a:xfrm>
          <a:prstGeom prst="rect">
            <a:avLst/>
          </a:prstGeom>
          <a:ln w="0">
            <a:noFill/>
          </a:ln>
        </p:spPr>
      </p:pic>
      <p:pic>
        <p:nvPicPr>
          <p:cNvPr id="49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5867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Wood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as been with man since we learned to use tools for our advantag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helped build the first shelters and has been with us for construction and furniture ever sinc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n important material and it has universal uses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wood 2.mp3" descr=""/>
          <p:cNvPicPr/>
          <p:nvPr/>
        </p:nvPicPr>
        <p:blipFill>
          <a:blip r:embed="rId4"/>
          <a:stretch/>
        </p:blipFill>
        <p:spPr>
          <a:xfrm>
            <a:off x="208080" y="6126120"/>
            <a:ext cx="498240" cy="49860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762120" y="616752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o pres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8823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193225365_31e24d0c6c_o.jpg"/>
          <p:cNvPicPr/>
          <p:nvPr/>
        </p:nvPicPr>
        <p:blipFill>
          <a:blip r:embed="rId2"/>
          <a:srcRect l="18440" t="0" r="4469" b="0"/>
          <a:stretch/>
        </p:blipFill>
        <p:spPr>
          <a:xfrm>
            <a:off x="4983120" y="1905120"/>
            <a:ext cx="4160880" cy="3868560"/>
          </a:xfrm>
          <a:prstGeom prst="rect">
            <a:avLst/>
          </a:prstGeom>
          <a:ln w="0">
            <a:noFill/>
          </a:ln>
        </p:spPr>
      </p:pic>
      <p:pic>
        <p:nvPicPr>
          <p:cNvPr id="5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 is an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organic material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at typically generates in trees as a result of the tree’s growth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37ff15"/>
                </a:solidFill>
                <a:latin typeface="Calibri"/>
              </a:rPr>
              <a:t>Biologicall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wood is a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cellulose composit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that helps the distribution of water and nutrients, as well as provide structural support for the plan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pen_blank_pg_40b_lg.jpg"/>
          <p:cNvPicPr/>
          <p:nvPr/>
        </p:nvPicPr>
        <p:blipFill>
          <a:blip r:embed="rId2"/>
          <a:stretch/>
        </p:blipFill>
        <p:spPr>
          <a:xfrm>
            <a:off x="1371600" y="3352680"/>
            <a:ext cx="6045120" cy="3810240"/>
          </a:xfrm>
          <a:prstGeom prst="rect">
            <a:avLst/>
          </a:prstGeom>
          <a:ln w="0">
            <a:noFill/>
          </a:ln>
        </p:spPr>
      </p:pic>
      <p:pic>
        <p:nvPicPr>
          <p:cNvPr id="57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it is of organic origin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wood’s characteristics var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depending on the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kind of tre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it is taken from, and also it’s maturit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uses given to wood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didn’t even involve processing i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and it was used as it was found, either as a weapon or as fuel for a fire. Later on, man learned to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give shape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wood and made it useful to use with tools, and eventual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for buildings and furnit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 As we discovered more about its characteristics, we began using wood in everything we needed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57200" y="15998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Wood’s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floatability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helped create the first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boat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and until the 19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century, ships still used wood in their frame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natural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of wood helped creat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protected shelters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or early man, and its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heat iso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properties helped them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main warm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uring harsh weathe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anlon Ron plate bowl chopsticks.JPG"/>
          <p:cNvPicPr/>
          <p:nvPr/>
        </p:nvPicPr>
        <p:blipFill>
          <a:blip r:embed="rId2"/>
          <a:srcRect l="0" t="22285" r="8001" b="0"/>
          <a:stretch/>
        </p:blipFill>
        <p:spPr>
          <a:xfrm>
            <a:off x="4546440" y="3225960"/>
            <a:ext cx="4673880" cy="3632040"/>
          </a:xfrm>
          <a:prstGeom prst="rect">
            <a:avLst/>
          </a:prstGeom>
          <a:ln w="0">
            <a:noFill/>
          </a:ln>
        </p:spPr>
      </p:pic>
      <p:pic>
        <p:nvPicPr>
          <p:cNvPr id="64" name="Title 1" descr=""/>
          <p:cNvPicPr/>
          <p:nvPr/>
        </p:nvPicPr>
        <p:blipFill>
          <a:blip r:embed="rId3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457200" y="11887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light weight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goo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resistanc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easy manipulation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made it a perfect material to develop more </a:t>
            </a:r>
            <a:r>
              <a:rPr b="0" lang="en-US" sz="3000" spc="-1" strike="noStrike">
                <a:solidFill>
                  <a:srgbClr val="ffff00"/>
                </a:solidFill>
                <a:latin typeface="Calibri"/>
              </a:rPr>
              <a:t>advance tools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like handles and cutlery, such as chopsticks, toothpicks, and other utensils, like the wooden spo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t is also good for furniture and decoration, a fact that stays true even today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Title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y of the machines made before the invention of plastics had wood in them. The only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effective replacement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wood in modern times, </a:t>
            </a:r>
            <a:r>
              <a:rPr b="0" lang="en-US" sz="3200" spc="-1" strike="noStrike">
                <a:solidFill>
                  <a:srgbClr val="ffff00"/>
                </a:solidFill>
                <a:latin typeface="Calibri"/>
              </a:rPr>
              <a:t>is actually still woo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Daimler car-22.jpg"/>
          <p:cNvPicPr/>
          <p:nvPr/>
        </p:nvPicPr>
        <p:blipFill>
          <a:blip r:embed="rId3"/>
          <a:stretch/>
        </p:blipFill>
        <p:spPr>
          <a:xfrm>
            <a:off x="2054160" y="3565440"/>
            <a:ext cx="4595760" cy="329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2T13:32:01Z</dcterms:created>
  <dc:creator>D R</dc:creator>
  <dc:description/>
  <dc:language>en-US</dc:language>
  <cp:lastModifiedBy>D R</cp:lastModifiedBy>
  <dcterms:modified xsi:type="dcterms:W3CDTF">2010-03-02T13:51:19Z</dcterms:modified>
  <cp:revision>17</cp:revision>
  <dc:subject/>
  <dc:title>WOOD</dc:title>
</cp:coreProperties>
</file>