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305-6CAC-4763-9349-3DF212593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2585-BF6F-4E79-BCFE-D03B26626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51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A8A7-A71A-4FC8-B967-6756A471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3452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220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3452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1220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B828-23C1-4418-9F10-C5F332EA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FDA1F-7796-43FD-9DBD-480FB0847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FDD8-C36E-4A0A-BC6C-58B3DB051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CAA6-1AB5-4BA6-9AA7-92DC1BC2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0560-6829-43AA-B19A-4E5E9E5E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F54-EF4F-46BB-A9C3-4EE5E94D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A289-06C6-48B2-BBA4-A188D12D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51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C3B0-BB5E-49C9-A7F6-3D5F47F8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3530-84FC-46A5-832A-3295A0AA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BCF20-8E5D-4566-AB02-A20692ABC51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7022BC-C741-41F2-B9AF-78C149D1BA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cohut_gert-eussen-1.jpg"/>
          <p:cNvPicPr/>
          <p:nvPr/>
        </p:nvPicPr>
        <p:blipFill>
          <a:blip r:embed="rId2"/>
          <a:stretch/>
        </p:blipFill>
        <p:spPr>
          <a:xfrm>
            <a:off x="1133640" y="1657440"/>
            <a:ext cx="6833880" cy="520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00040" y="5791320"/>
            <a:ext cx="576900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esentation by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urdes Per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3"/>
          <a:stretch/>
        </p:blipFill>
        <p:spPr>
          <a:xfrm>
            <a:off x="3041640" y="712800"/>
            <a:ext cx="28526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457200" y="1417680"/>
            <a:ext cx="82296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Engineered wo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 man-made material that uses different kinds of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oods and chemical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produce a homogeneous, cheaper and more resistant material, is used when large portions of continuous wood are needed, or when someone requires wood that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doesn’t deteriorate in certain circumstanc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It still requires natural wood as a base material and it’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not as versatile and aesthetic as natural wo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Modern construction wood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lude plywood, products such as glued laminated timber (glulam), laminated veneer lumber, parallam and I-jois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These are all light and resistan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n-made woods, but they still fail to replace traditional building wood completel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portions that ar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unfit for construc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oces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o other useful materials such as chipboard, engineered wood, hardboard, medium-density fiberboard, oriented strand board. Such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ood derivativ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widely used: wood fibers are an important component of most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ap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cellulose is used as a component of som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ynthetic materi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derivatives can also be used for all kinds of flooring, for exampl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aminate floo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laminate_flooring.jpg"/>
          <p:cNvPicPr/>
          <p:nvPr/>
        </p:nvPicPr>
        <p:blipFill>
          <a:blip r:embed="rId3"/>
          <a:srcRect l="0" t="29584" r="0" b="0"/>
          <a:stretch/>
        </p:blipFill>
        <p:spPr>
          <a:xfrm>
            <a:off x="2654280" y="3586320"/>
            <a:ext cx="60325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od as a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onstruction materia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a very long history. It is very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easy to work wi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en compared to stone, brick and metal. It offer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sistance and strength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out too much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eigh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its one of the most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basic structural material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can b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14044_99_1.jpg"/>
          <p:cNvPicPr/>
          <p:nvPr/>
        </p:nvPicPr>
        <p:blipFill>
          <a:blip r:embed="rId3"/>
          <a:stretch/>
        </p:blipFill>
        <p:spPr>
          <a:xfrm>
            <a:off x="3200400" y="3657600"/>
            <a:ext cx="3276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arly uses of wood in construction were that of providing th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ore structur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the building. Even in early stone houses and other buildings made entirely of non organic materials, a wooden frame would b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necessar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hold the structure together an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support its weigh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til it could be finish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cause wood i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heap and versatil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it has been used for regular house building for a very long time. After the 1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entury, with modern materials available,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e still need woo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construction process and also as part of the structure of some hou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ilustracni-obrazek.jpg"/>
          <p:cNvPicPr/>
          <p:nvPr/>
        </p:nvPicPr>
        <p:blipFill>
          <a:blip r:embed="rId3"/>
          <a:stretch/>
        </p:blipFill>
        <p:spPr>
          <a:xfrm>
            <a:off x="990720" y="4089240"/>
            <a:ext cx="63500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781680" y="5867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Formal_Bow_by_DarccWrath.jpg"/>
          <p:cNvPicPr/>
          <p:nvPr/>
        </p:nvPicPr>
        <p:blipFill>
          <a:blip r:embed="rId2"/>
          <a:stretch/>
        </p:blipFill>
        <p:spPr>
          <a:xfrm>
            <a:off x="228276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4320" y="213372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woo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se of w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rn w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ctangle 4" descr=""/>
          <p:cNvPicPr/>
          <p:nvPr/>
        </p:nvPicPr>
        <p:blipFill>
          <a:blip r:embed="rId2"/>
          <a:stretch/>
        </p:blipFill>
        <p:spPr>
          <a:xfrm>
            <a:off x="3041640" y="291960"/>
            <a:ext cx="2852640" cy="1341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pd2047101.jpg"/>
          <p:cNvPicPr/>
          <p:nvPr/>
        </p:nvPicPr>
        <p:blipFill>
          <a:blip r:embed="rId3"/>
          <a:stretch/>
        </p:blipFill>
        <p:spPr>
          <a:xfrm>
            <a:off x="225360" y="1773360"/>
            <a:ext cx="335916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93227876_9c50524342_o.jpg"/>
          <p:cNvPicPr/>
          <p:nvPr/>
        </p:nvPicPr>
        <p:blipFill>
          <a:blip r:embed="rId2"/>
          <a:srcRect l="51401" t="0" r="0" b="0"/>
          <a:stretch/>
        </p:blipFill>
        <p:spPr>
          <a:xfrm flipH="1">
            <a:off x="5943240" y="1752480"/>
            <a:ext cx="2971800" cy="3861000"/>
          </a:xfrm>
          <a:prstGeom prst="rect">
            <a:avLst/>
          </a:prstGeom>
          <a:ln w="0">
            <a:noFill/>
          </a:ln>
        </p:spPr>
      </p:pic>
      <p:pic>
        <p:nvPicPr>
          <p:cNvPr id="49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o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as been with man since we learned to use tools for our advantag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helped build the first shelters and has been with us for construction and furniture ever sinc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n important material and it has universal us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wood 2.mp3" descr=""/>
          <p:cNvPicPr/>
          <p:nvPr/>
        </p:nvPicPr>
        <p:blipFill>
          <a:blip r:embed="rId4"/>
          <a:stretch/>
        </p:blipFill>
        <p:spPr>
          <a:xfrm>
            <a:off x="208080" y="6126120"/>
            <a:ext cx="498240" cy="498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762120" y="61675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823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93225365_31e24d0c6c_o.jpg"/>
          <p:cNvPicPr/>
          <p:nvPr/>
        </p:nvPicPr>
        <p:blipFill>
          <a:blip r:embed="rId2"/>
          <a:srcRect l="18440" t="0" r="4469" b="0"/>
          <a:stretch/>
        </p:blipFill>
        <p:spPr>
          <a:xfrm>
            <a:off x="4983120" y="1905120"/>
            <a:ext cx="4160880" cy="3868560"/>
          </a:xfrm>
          <a:prstGeom prst="rect">
            <a:avLst/>
          </a:prstGeom>
          <a:ln w="0">
            <a:noFill/>
          </a:ln>
        </p:spPr>
      </p:pic>
      <p:pic>
        <p:nvPicPr>
          <p:cNvPr id="54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282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od is an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organic materia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typically generates in trees as a result of the tree’s grow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37ff15"/>
                </a:solidFill>
                <a:latin typeface="Calibri"/>
              </a:rPr>
              <a:t>Biological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ood is a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ellulose composit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at helps the distribution of water and nutrients, as well as provide structural support for the pla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pen_blank_pg_40b_lg.jpg"/>
          <p:cNvPicPr/>
          <p:nvPr/>
        </p:nvPicPr>
        <p:blipFill>
          <a:blip r:embed="rId2"/>
          <a:stretch/>
        </p:blipFill>
        <p:spPr>
          <a:xfrm>
            <a:off x="1371600" y="3352680"/>
            <a:ext cx="6045120" cy="3810240"/>
          </a:xfrm>
          <a:prstGeom prst="rect">
            <a:avLst/>
          </a:prstGeom>
          <a:ln w="0">
            <a:noFill/>
          </a:ln>
        </p:spPr>
      </p:pic>
      <p:pic>
        <p:nvPicPr>
          <p:cNvPr id="57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it is of organic origin,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ood’s characteristics v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pending on th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kind of tre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t is taken from, and also it’s matur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uses given to wood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idn’t even involve processing 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it was used as it was found, either as a weapon or as fuel for a fire. Later on, man learned to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ive shap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wood and made it useful to use with tools, and eventually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r buildings and furni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s we discovered more about its characteristics, we began using wood in everything we need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od’s natural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floatabil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elped create the first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boa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until the 1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entury, ships still used wood in their fra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atural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sist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wood helped creat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protected shelter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arly man, and it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heat isol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perties helped them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main warm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ring harsh wea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Hanlon Ron plate bowl chopsticks.JPG"/>
          <p:cNvPicPr/>
          <p:nvPr/>
        </p:nvPicPr>
        <p:blipFill>
          <a:blip r:embed="rId2"/>
          <a:srcRect l="0" t="22285" r="8001" b="0"/>
          <a:stretch/>
        </p:blipFill>
        <p:spPr>
          <a:xfrm>
            <a:off x="4546440" y="3225960"/>
            <a:ext cx="4673880" cy="3632040"/>
          </a:xfrm>
          <a:prstGeom prst="rect">
            <a:avLst/>
          </a:prstGeom>
          <a:ln w="0">
            <a:noFill/>
          </a:ln>
        </p:spPr>
      </p:pic>
      <p:pic>
        <p:nvPicPr>
          <p:cNvPr id="64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1887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light weigh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goo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sist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easy manipul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de it a perfect material to develop mor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advance tool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like handles and cutlery, such as chopsticks, toothpicks, and other utensils, like the wooden spo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lso good for furniture and decoration, a fact that stays true even toda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of the machines made before the invention of plastics had wood in them. The only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effective replaceme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wood in modern times,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s actually still wo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Daimler car-22.jpg"/>
          <p:cNvPicPr/>
          <p:nvPr/>
        </p:nvPicPr>
        <p:blipFill>
          <a:blip r:embed="rId3"/>
          <a:stretch/>
        </p:blipFill>
        <p:spPr>
          <a:xfrm>
            <a:off x="2054160" y="3565440"/>
            <a:ext cx="459576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3:32:01Z</dcterms:created>
  <dc:creator>D R</dc:creator>
  <dc:description/>
  <dc:language>en-US</dc:language>
  <cp:lastModifiedBy>D R</cp:lastModifiedBy>
  <dcterms:modified xsi:type="dcterms:W3CDTF">2010-03-02T13:51:19Z</dcterms:modified>
  <cp:revision>17</cp:revision>
  <dc:subject/>
  <dc:title>WOOD</dc:title>
</cp:coreProperties>
</file>