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9.jpeg" ContentType="image/jpeg"/>
  <Override PartName="/ppt/media/image5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1D1B-9A1B-4A44-A312-ACC073A11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3812-BB12-4913-A9BC-CAC7A1724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151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151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D70B-020A-4877-8E08-3BDEAE552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23452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01220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23452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01220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DC0E-5A2C-48D3-838A-046AAF787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BDC9-2267-47A1-99E3-27C5E9EC5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AB9B1-5117-4338-9550-FE4038312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151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EBBB-E7C7-47D4-AA37-2606186DA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0B70-C5CF-469B-AB39-3BA290E3F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B2AC-A0EB-4E5C-BFBF-05E5F9BAD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151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4C8B-46D8-4979-B5F0-45EB59DD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151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151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EBBC0-34EE-48B0-A839-97E4AAC7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151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456C-C925-49A5-810E-DA83E7D09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EDF8C0-C472-4A45-B226-40ED027BEB7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A3920B-E8F8-44DC-8707-66D1AA3763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cocohut_gert-eussen-1.jpg"/>
          <p:cNvPicPr/>
          <p:nvPr/>
        </p:nvPicPr>
        <p:blipFill>
          <a:blip r:embed="rId2"/>
          <a:stretch/>
        </p:blipFill>
        <p:spPr>
          <a:xfrm>
            <a:off x="1133640" y="1657440"/>
            <a:ext cx="6833880" cy="5207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3200040" y="5791320"/>
            <a:ext cx="5769000" cy="79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resentation by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ourdes Pern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Rectangle 3" descr=""/>
          <p:cNvPicPr/>
          <p:nvPr/>
        </p:nvPicPr>
        <p:blipFill>
          <a:blip r:embed="rId3"/>
          <a:stretch/>
        </p:blipFill>
        <p:spPr>
          <a:xfrm>
            <a:off x="3041640" y="712800"/>
            <a:ext cx="2852640" cy="13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70" name="TextBox 4"/>
          <p:cNvSpPr/>
          <p:nvPr/>
        </p:nvSpPr>
        <p:spPr>
          <a:xfrm>
            <a:off x="457200" y="1417680"/>
            <a:ext cx="822960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Engineered wood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a man-made material that uses different kinds of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woods and chemicals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o produce a homogeneous, cheaper and more resistant material, is used when large portions of continuous wood are needed, or when someone requires wood that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doesn’t deteriorate in certain circumstance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 It still requires natural wood as a base material and it’s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not as versatile and aesthetic as natural wood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457200" y="15998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Modern construction woods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clude plywood, products such as glued laminated timber (glulam), laminated veneer lumber, parallam and I-joist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These are all light and resistant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n-made woods, but they still fail to replace traditional building wood completely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od portions that are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unfit for constructio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be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processe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to other useful materials such as chipboard, engineered wood, hardboard, medium-density fiberboard, oriented strand board. Such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wood derivative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e widely used: wood fibers are an important component of most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pap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and cellulose is used as a component of some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synthetic material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4568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od derivatives can also be used for all kinds of flooring, for example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laminate floor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3" descr="laminate_flooring.jpg"/>
          <p:cNvPicPr/>
          <p:nvPr/>
        </p:nvPicPr>
        <p:blipFill>
          <a:blip r:embed="rId3"/>
          <a:srcRect l="0" t="29584" r="0" b="0"/>
          <a:stretch/>
        </p:blipFill>
        <p:spPr>
          <a:xfrm>
            <a:off x="2654280" y="3586320"/>
            <a:ext cx="603252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457200" y="15998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ood as a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construction material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as a very long history. It is very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easy to work with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when compared to stone, brick and metal. It offers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resistance and strength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ithout too much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weight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and its one of the most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basic structural materials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re can b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3" descr="14044_99_1.jpg"/>
          <p:cNvPicPr/>
          <p:nvPr/>
        </p:nvPicPr>
        <p:blipFill>
          <a:blip r:embed="rId3"/>
          <a:stretch/>
        </p:blipFill>
        <p:spPr>
          <a:xfrm>
            <a:off x="3200400" y="3657600"/>
            <a:ext cx="32767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457200" y="159984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early uses of wood in construction were that of providing the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core structure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f the building. Even in early stone houses and other buildings made entirely of non organic materials, a wooden frame would be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necessar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to hold the structure together and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support its weight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ntil it could be finished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ecause wood is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cheap and versatil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it has been used for regular house building for a very long time. After the 19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century, with modern materials available,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we still need wood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 the construction process and also as part of the structure of some hous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3" descr="ilustracni-obrazek.jpg"/>
          <p:cNvPicPr/>
          <p:nvPr/>
        </p:nvPicPr>
        <p:blipFill>
          <a:blip r:embed="rId3"/>
          <a:stretch/>
        </p:blipFill>
        <p:spPr>
          <a:xfrm>
            <a:off x="990720" y="4089240"/>
            <a:ext cx="635004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6781680" y="5867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Formal_Bow_by_DarccWrath.jpg"/>
          <p:cNvPicPr/>
          <p:nvPr/>
        </p:nvPicPr>
        <p:blipFill>
          <a:blip r:embed="rId2"/>
          <a:stretch/>
        </p:blipFill>
        <p:spPr>
          <a:xfrm>
            <a:off x="2282760" y="0"/>
            <a:ext cx="4578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784320" y="2133720"/>
            <a:ext cx="510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woo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se of w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dern w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 a mate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Rectangle 4" descr=""/>
          <p:cNvPicPr/>
          <p:nvPr/>
        </p:nvPicPr>
        <p:blipFill>
          <a:blip r:embed="rId2"/>
          <a:stretch/>
        </p:blipFill>
        <p:spPr>
          <a:xfrm>
            <a:off x="3041640" y="291960"/>
            <a:ext cx="2852640" cy="1341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pd2047101.jpg"/>
          <p:cNvPicPr/>
          <p:nvPr/>
        </p:nvPicPr>
        <p:blipFill>
          <a:blip r:embed="rId3"/>
          <a:stretch/>
        </p:blipFill>
        <p:spPr>
          <a:xfrm>
            <a:off x="225360" y="1773360"/>
            <a:ext cx="3359160" cy="49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193227876_9c50524342_o.jpg"/>
          <p:cNvPicPr/>
          <p:nvPr/>
        </p:nvPicPr>
        <p:blipFill>
          <a:blip r:embed="rId2"/>
          <a:srcRect l="51401" t="0" r="0" b="0"/>
          <a:stretch/>
        </p:blipFill>
        <p:spPr>
          <a:xfrm flipH="1">
            <a:off x="5943240" y="1752480"/>
            <a:ext cx="2971800" cy="3861000"/>
          </a:xfrm>
          <a:prstGeom prst="rect">
            <a:avLst/>
          </a:prstGeom>
          <a:ln w="0">
            <a:noFill/>
          </a:ln>
        </p:spPr>
      </p:pic>
      <p:pic>
        <p:nvPicPr>
          <p:cNvPr id="49" name="Title 1" descr=""/>
          <p:cNvPicPr/>
          <p:nvPr/>
        </p:nvPicPr>
        <p:blipFill>
          <a:blip r:embed="rId3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457200" y="160020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Wood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has been with man since we learned to use tools for our advantag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 helped build the first shelters and has been with us for construction and furniture ever sinc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 is an important material and it has universal use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wood 2.mp3" descr=""/>
          <p:cNvPicPr/>
          <p:nvPr/>
        </p:nvPicPr>
        <p:blipFill>
          <a:blip r:embed="rId4"/>
          <a:stretch/>
        </p:blipFill>
        <p:spPr>
          <a:xfrm>
            <a:off x="208080" y="6126120"/>
            <a:ext cx="498240" cy="498600"/>
          </a:xfrm>
          <a:prstGeom prst="rect">
            <a:avLst/>
          </a:prstGeom>
          <a:ln w="0">
            <a:noFill/>
          </a:ln>
        </p:spPr>
      </p:pic>
      <p:sp>
        <p:nvSpPr>
          <p:cNvPr id="52" name="TextBox 5"/>
          <p:cNvSpPr/>
          <p:nvPr/>
        </p:nvSpPr>
        <p:spPr>
          <a:xfrm>
            <a:off x="762120" y="616752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dio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88232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193225365_31e24d0c6c_o.jpg"/>
          <p:cNvPicPr/>
          <p:nvPr/>
        </p:nvPicPr>
        <p:blipFill>
          <a:blip r:embed="rId2"/>
          <a:srcRect l="18440" t="0" r="4469" b="0"/>
          <a:stretch/>
        </p:blipFill>
        <p:spPr>
          <a:xfrm>
            <a:off x="4983120" y="1905120"/>
            <a:ext cx="4160880" cy="3868560"/>
          </a:xfrm>
          <a:prstGeom prst="rect">
            <a:avLst/>
          </a:prstGeom>
          <a:ln w="0">
            <a:noFill/>
          </a:ln>
        </p:spPr>
      </p:pic>
      <p:pic>
        <p:nvPicPr>
          <p:cNvPr id="54" name="Title 1" descr=""/>
          <p:cNvPicPr/>
          <p:nvPr/>
        </p:nvPicPr>
        <p:blipFill>
          <a:blip r:embed="rId3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2282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ood is an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organic material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at typically generates in trees as a result of the tree’s growth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37ff15"/>
                </a:solidFill>
                <a:latin typeface="Calibri"/>
              </a:rPr>
              <a:t>Biologicall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wood is a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cellulose composit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that helps the distribution of water and nutrients, as well as provide structural support for the plant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pen_blank_pg_40b_lg.jpg"/>
          <p:cNvPicPr/>
          <p:nvPr/>
        </p:nvPicPr>
        <p:blipFill>
          <a:blip r:embed="rId2"/>
          <a:stretch/>
        </p:blipFill>
        <p:spPr>
          <a:xfrm>
            <a:off x="1371600" y="3352680"/>
            <a:ext cx="6045120" cy="3810240"/>
          </a:xfrm>
          <a:prstGeom prst="rect">
            <a:avLst/>
          </a:prstGeom>
          <a:ln w="0">
            <a:noFill/>
          </a:ln>
        </p:spPr>
      </p:pic>
      <p:pic>
        <p:nvPicPr>
          <p:cNvPr id="57" name="Title 1" descr=""/>
          <p:cNvPicPr/>
          <p:nvPr/>
        </p:nvPicPr>
        <p:blipFill>
          <a:blip r:embed="rId3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nce it is of organic origin,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wood’s characteristics var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epending on the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kind of tre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t is taken from, and also it’s maturit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uses given to wood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didn’t even involve processing i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and it was used as it was found, either as a weapon or as fuel for a fire. Later on, man learned to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give shap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wood and made it useful to use with tools, and eventually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for buildings and furnit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As we discovered more about its characteristics, we began using wood in everything we neede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457200" y="15998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ood’s natural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floatabilit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helped create the first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boat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and until the 19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century, ships still used wood in their fram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natural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resistanc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of wood helped create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protected shelters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r early man, and its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heat isolatio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properties helped them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remain warm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uring harsh weather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Hanlon Ron plate bowl chopsticks.JPG"/>
          <p:cNvPicPr/>
          <p:nvPr/>
        </p:nvPicPr>
        <p:blipFill>
          <a:blip r:embed="rId2"/>
          <a:srcRect l="0" t="22285" r="8001" b="0"/>
          <a:stretch/>
        </p:blipFill>
        <p:spPr>
          <a:xfrm>
            <a:off x="4546440" y="3225960"/>
            <a:ext cx="4673880" cy="3632040"/>
          </a:xfrm>
          <a:prstGeom prst="rect">
            <a:avLst/>
          </a:prstGeom>
          <a:ln w="0">
            <a:noFill/>
          </a:ln>
        </p:spPr>
      </p:pic>
      <p:pic>
        <p:nvPicPr>
          <p:cNvPr id="64" name="Title 1" descr=""/>
          <p:cNvPicPr/>
          <p:nvPr/>
        </p:nvPicPr>
        <p:blipFill>
          <a:blip r:embed="rId3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457200" y="11887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light weight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good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resistanc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easy manipulatio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made it a perfect material to develop more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advance tool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like handles and cutlery, such as chopsticks, toothpicks, and other utensils, like the wooden spoo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 is also good for furniture and decoration, a fact that stays true even today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y of the machines made before the invention of plastics had wood in them. The only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effective replacemen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wood in modern times,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is actually still woo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5" descr="Daimler car-22.jpg"/>
          <p:cNvPicPr/>
          <p:nvPr/>
        </p:nvPicPr>
        <p:blipFill>
          <a:blip r:embed="rId3"/>
          <a:stretch/>
        </p:blipFill>
        <p:spPr>
          <a:xfrm>
            <a:off x="2054160" y="3565440"/>
            <a:ext cx="4595760" cy="32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2T13:32:01Z</dcterms:created>
  <dc:creator>D R</dc:creator>
  <dc:description/>
  <dc:language>en-US</dc:language>
  <cp:lastModifiedBy>D R</cp:lastModifiedBy>
  <dcterms:modified xsi:type="dcterms:W3CDTF">2010-03-02T13:51:19Z</dcterms:modified>
  <cp:revision>17</cp:revision>
  <dc:subject/>
  <dc:title>WOOD</dc:title>
</cp:coreProperties>
</file>